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9FD1-7D35-4527-9FAA-664555D1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A4F-57B4-419A-BAE0-4AA05E72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9E6-A369-43E1-82E2-385050D2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E4A-FAB0-4F5D-84F2-2902746B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113-B361-4285-92F0-8440D049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59C-7DBD-46FF-B31A-C04A384F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655-C9FD-465E-B55F-94801FA1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6A0-7AD8-45A2-AECC-93F2A997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F2E-08D8-44C3-B526-EFF3CC41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84E-2C43-4C23-944E-1C3CE8B8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BFC-1EC0-4794-A204-F4A375CE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772-A583-4785-9603-A081EAB1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93C-DC78-44EE-8329-AE086064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9977-9758-42F8-9BB9-EFDB5FBBB7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67FF7D-5E14-4B58-ADFB-D1F12307A8B2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8:50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BE52-E518-40EE-8DDA-8CB07A04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hemistry Fall Semester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96E-3070-400E-8F23-5C25EA3B6B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5: Naming!  Molar mass, oxidation numbers, and polyatomic ion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93E-54C4-4310-9D08-6B6A02DAC8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5: Also, percent composition, empirical formula and molecular formu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DC4-3148-4FA2-AED1-03937A3A64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6: Reactions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lues of rxns.  Balancing equations.  Types of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438-BB72-402F-B5CF-837E279E4C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6: Also, predicting produ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FF1-79CC-4625-B132-8B904B6A46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7: Stoichiometry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Percent yield, and limiting react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1EF-E373-4277-BCA8-FE910B7F04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3D8-1D71-435C-8D84-2089B7FEE7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scientific meth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73E-0370-483E-A62F-344AF58A28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roblem, hypothesis, experiment, observations, law,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6BF-0D3A-4968-A253-00D3A798BF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cientists solve problems by using the scientific meth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93B-6D34-4DD7-A186-B62A748AC5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potheses are tested with experiments.  Can become theori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358-504C-4DDE-AFF0-D994502E63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es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95 multiple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ach question holds the equal we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cantron (penci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~104 minu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CD4-DFBA-4F09-AD6C-B2A3483BF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ories explain observations made over long periods of ti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117-C07B-4F45-B058-672C1809DD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aws are used to summarize observed behavi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aw of conservation of ma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B61-72A0-4A71-8ABC-3D445FAFBD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bservations  can be quantitative (data) or qualitative (description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B22-808B-4F2D-8E75-00FD2C25A3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l measurements are made with accuracy and maximum preci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ignificant fig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1AC-EDCF-400A-AC20-7C9FE3C4F3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ignificant figures: all certain plus one uncertain dig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A55-8812-4FA0-92F5-BFDF761D4C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 metric system is based on prefix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AD2-1C92-408A-BCD7-8E14E1A445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kilo-                      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hecto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deka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Base (m, L, 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deci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enti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milli-                     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1600200"/>
            <a:ext cx="0" cy="1752480"/>
          </a:xfrm>
          <a:prstGeom prst="line">
            <a:avLst/>
          </a:prstGeom>
          <a:ln w="92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0" cy="1828800"/>
          </a:xfrm>
          <a:prstGeom prst="line">
            <a:avLst/>
          </a:prstGeom>
          <a:ln w="92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E29-9300-4BB9-9408-FDC322211C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nvert 54.6 mg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divide 54.6 by 1000 = 0.0546 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83A-24C4-46BB-AD7F-7653EBDFA3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emperature measure average kinetic energy of a subst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ahrenheit, Celsius, Kelv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2BB-0471-46E4-9513-A6BEB61995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elvin is the “absolute” temperature sca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9DA-87F0-4425-8555-6D50E6E9E7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Final Schedu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1/13: Per.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1/14: Per. 1 and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1/15: Per. 2 and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1/16: Per. 4 and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902-7B07-4D66-A26A-25FCA01B9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:  K – 27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K: 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+ 27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:  (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x 1.80) + 3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:  (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 – 32) / 1.8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867-8C4B-4AB9-850E-F4991C4924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nvert 140 K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- 133 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31F-9692-44A0-B6AB-5781D034AB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308-CD0E-48BE-898B-BEB7B8025D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ig fig in calcul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esser number in mult / d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ne up numbers in add / subtra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189-7B6C-4058-8B7B-109C2029C8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nd the area of volume of a box: L=10.0 cm, w=2.5 cm, h=5.60 c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140 cm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1BF-203E-4C08-83A4-F3D85A00A1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ysical properties: substance stays the sa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hemical: reactivit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73D-4A3B-47C1-9E1A-0C7D16B4AF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s, compounds and mix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s cannot be sepa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DD0-C3C4-42B0-B318-D2291ED0BC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mpounds can be separated by chemical means; mixtures by physical me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B0E-3420-4428-95AD-B8D8F4EE35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tero- vs. homogeneous mix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terogeneous can be separated by filt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about homo-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1F5-9B87-45AE-BDC7-5B294C98F6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about Democritus, Dalton, Thomson, Rutherford and Mendelee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6D4-4387-4662-B146-42DD7D698E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udy old review she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udy your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your shap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ime you math probl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E72-FEC0-46CB-94E2-5EE41E9A1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alton’s atomic theory is not entirely accepted today. (1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atomic theory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y no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CD3-ABE1-4B24-9EC7-4D51383877E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omson: CRT (electr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utherford: Au foil (nucleu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endeleev: first periodic 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F3C-9340-4E6B-A208-E1E41EFB90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dern periodic: arranged by increasing atomic 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43B-C53D-4AC2-A8EA-27867A0C0E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ic # = # of 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ic mass = # of p + n in the nucle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# of electrons = atomic # (if not an 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CC0-EB0D-415B-9E73-12B25350A42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electrons in an atom of N with a mass # of 1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29C-F937-41D9-9004-C4ABDA2043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sotopes: same # p, diff’t #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somers: same formula, diff’t sha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29C-FF37-4ACF-BF9D-BE866277A5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hange g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mo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ivide by the molar ma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hange moles 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ult. by the molar ma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D4B-4D9A-4BD2-ADB9-B6C5D403A4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moles in 25.0 grams of F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0.448 m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479-0C52-4FC1-A363-CD27F31365D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moles in 25.0 grams of NaN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0.294 m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1BC-7061-410F-B2E3-AD56894CEC6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sample has more atoms?  10 g of Ag or 10 g of Au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wer: A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1A7-E576-4E68-BFD1-F6BE1645EE1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1: Scientific Method and the Metric Syst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2BE-9D6D-41C3-B781-226F3E88EA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AF1-CE50-4913-8439-45FD3D2BFA9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ave theory of l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 = </a:t>
            </a:r>
            <a:r>
              <a:rPr b="1" lang="el-GR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λ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 = h</a:t>
            </a:r>
            <a:r>
              <a:rPr b="1" lang="el-GR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Higher frequencies = higher energ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507-7BEA-4D53-BE7F-3EB1D4B069C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hotons are released when electrons return to their ground 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(red, yellow, blu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A08-ECF8-4503-8C7C-61CD0B5377E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hr: used quantum theory to describe electron orb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chrödinger: used wave mechanics to describe electron orbital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430-72FA-47FB-BC56-CEFDBE426B0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rbitals: probability ma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on configurations: based on quantum numb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498-4457-49F7-BF2B-8802030AF9C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rbital shapes: s, p, d, 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ufbau, Pauli, Hu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ru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4A2-4958-48B7-810B-7648F6E7FCE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ook for the 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</a:rPr>
              <a:t>incorrect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configu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3 types of configu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[Noble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3A2-079A-4069-9266-5E3B1873E7E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ments “want” to have noble gas configu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ow many electrons are needed by N to achieve a noble gas config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: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D47-ECF3-446E-B99F-9CE25C848F5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element has the configuration of 1s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2s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2p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6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3s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3p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5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: Chlor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1DF-1EC0-481B-9F3F-481C1708F22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eriodic propertie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onegativ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onization ener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tomic rad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onic rad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1AA-0CD0-4476-8233-EE50F808978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2: Matter, density, chemical and physical properties, atomic theory and the m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618-6A16-44EA-AADA-FF3A7E64A0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ich type of elements have higher electronegativities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ns: non-met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536-F05A-4DAE-A19D-04D196CE55F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Know the “familie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rouped by similar chemical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ue to valence electr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24E-A1DC-4DAB-ADA3-860CFDF1805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3E8-C6D5-4608-A3E1-36BCCCDA2EC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ree types of bo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onic: metals + non-met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valent: 2 non-met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B97-CB5A-445F-9194-565C860532A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hapes!  Bent, linear, trigonal pyramidal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hape of C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Ans: Lin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249-F759-4762-AD58-CFE477C9B24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nd angles: linear, bent, tetrahed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07F-9EB0-4AAA-9AF0-926C1CF2056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sonance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A2D-30BD-4C17-9227-2A4AB05D9F4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A1C-C96C-45A4-B39E-93672565AB8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am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 I: (Grp. 1&amp;2 metals + non-meta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 II: Other metals + non-meta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C68-948E-4461-9062-95B61694A68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Oxidation state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, Zn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, Ag</a:t>
            </a:r>
            <a:r>
              <a:rPr b="1" lang="en-US" sz="5400" spc="-1" strike="noStrike" baseline="30000">
                <a:solidFill>
                  <a:srgbClr val="eaeaea"/>
                </a:solidFill>
                <a:latin typeface="Arial"/>
              </a:rPr>
              <a:t>+1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15D-DD5D-42AB-9292-5E83B1CC6E6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3: Structure of the atom, quantum theory, atomic models and electron configu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082-929C-41AB-93EB-3C8360535C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am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 III: 2 non-metals (use prefixes—bi-, tri-, tetra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E26-48C1-4DE2-AF33-C86A9551843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am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olyatomic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23D-7A40-4D66-9771-84F9AB32802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ame these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C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2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, NaNO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  <a:ea typeface="Times New Roman"/>
              </a:rPr>
              <a:t>3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, C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Formul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Iron(II)oxide, sodium 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005-A2DA-49F5-8E79-DEADE4E0EB2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mpirical formula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%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g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ratio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E.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ecular formu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molar mass / emp. mass = ratio (</a:t>
            </a:r>
            <a:r>
              <a:rPr b="1" i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D48-7A6F-4BEB-8D77-C930C4A7E47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812-5E15-4EF2-810A-F893A620B33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alancing equ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actant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rodu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umber of atoms must be the same on each side of the equ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4AC-13FA-4FFC-ACF5-6DB4CDAA920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xpect to balance several equ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9CF-F92F-4C5B-9E50-4300CA2ABCF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</a:t>
            </a:r>
            <a:r>
              <a:rPr b="1" lang="en-US" sz="5400" spc="-1" strike="noStrike" u="sng">
                <a:solidFill>
                  <a:srgbClr val="eaeaea"/>
                </a:solidFill>
                <a:uFillTx/>
                <a:latin typeface="Arial"/>
              </a:rPr>
              <a:t>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+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+   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hen the above equation is balanced, what is the coefficient of oxyg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2F6-B31B-4D2F-BE3E-98962950F34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+ </a:t>
            </a:r>
            <a:r>
              <a:rPr b="1" i="1" lang="en-US" sz="5400" spc="-1" strike="noStrike" u="sng">
                <a:solidFill>
                  <a:srgbClr val="eaeaea"/>
                </a:solidFill>
                <a:uFillTx/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+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When the above equation is balanced, what is the coefficient of oxyg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8C3-909B-4E2D-A428-7B8BE5CD92D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pes of reactions:  synthesis, decomposition, single replacement, double replacement, combu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F18-EF51-4882-804C-88963D44981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3: Also, periodic law and 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7D2-2BB0-48E7-9D05-35C4D53412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n PPT rxns: solids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pectator ions remain dissolv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CD6-9F0D-4579-8C00-6CF01EB766F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263-B7F1-47FE-B89F-B63C9A87E9A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toichiomet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alance eq.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rams to mole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atios</a:t>
            </a:r>
            <a:r>
              <a:rPr b="1" lang="en-US" sz="5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s to gr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715-2C6A-45CA-BF7A-675C573D23A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+ 2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  + 2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If 2.0 moles of methane react with excess oxygen, how many moles of water will be pro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55B-3E59-44DD-9FBD-82B935700C6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4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+ 2 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 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(g)  </a:t>
            </a:r>
            <a:r>
              <a:rPr b="1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  CO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(g)   +   2 H</a:t>
            </a:r>
            <a:r>
              <a:rPr b="1" lang="en-US" sz="4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O 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Ans:  4.0 m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FEC-C0F3-4C0F-A82E-A0CF9B55F57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xpect to perform several stoichiometric calcul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D45-3072-4DE5-81DC-99E9E079716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ave vs. 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C8F-D20C-40C9-B7EF-35ED50DA6DC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ercent Yield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ctu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-----------------  x 100%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oretic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5BC-1BB9-418E-BDE1-96E25F57AC4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on’t forget to write your version on your scantr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ood Luck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569-39D9-4A9B-A63C-9306E7D022F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view of the Units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Unit 4: Types of chemical bonds, molecular geometry and reson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Fall Final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DD9-B121-4BCA-9B66-06347541E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11:04Z</dcterms:created>
  <dc:creator>CFISD</dc:creator>
  <dc:description/>
  <dc:language>en-US</dc:language>
  <cp:lastModifiedBy>CFISD</cp:lastModifiedBy>
  <dcterms:modified xsi:type="dcterms:W3CDTF">2009-01-10T17:45:18Z</dcterms:modified>
  <cp:revision>57</cp:revision>
  <dc:subject/>
  <dc:title>Slide 1</dc:title>
</cp:coreProperties>
</file>